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A62-16E7-464E-81EA-5B971A45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1EC-92FE-46D1-9988-A4A99C7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B2423-D48D-447D-A9C9-50E65CFF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0D34B-CD70-4830-882A-50CC461A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3B9A-4BA2-4324-A753-A4B0213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E0AEF-73C2-4C85-978A-46A930D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12948-DA9E-4406-B4CF-31C73E6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50C3B-E0F5-4321-AA96-D0B1A27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78694-5B17-48B9-977C-4DD9ACC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72BE7-CE71-49DB-B880-450EB98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959B1-55FE-4397-8795-38B3EFFD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C9EEA-735F-4F57-917E-E0F3CAAC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4D5-ECC2-4926-B8B0-0BF184A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2E8A0-79F0-4015-A785-D38FB204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C690-1EB8-4575-A0D6-3736F999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D0A48-2E1B-4DFE-AE5D-8E87295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5D865-6EB6-4D14-9854-9624D88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5F652-BD94-4190-AD22-CD7C955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B3E8B-6F32-4D32-9F29-82340AC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F9DF9-B173-4CE6-B770-A1CFF25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72CFA-1C1C-4C94-8EB7-0EB9314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FC47-ACEB-4ED5-BE16-0D423F9B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F04D-87DA-47F2-97DF-D261741C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AC5-0DF6-4ACC-9CD0-0DDC30C7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E117D-7E1B-4B89-BA10-9DA60FE7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E0F3E-1668-4AA5-AE72-467A3003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287C-6B94-4918-8A42-473C48D6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6CC5-939B-4DC0-8ECD-D976FF2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CA97-89D0-41E8-8528-071DE0A0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1BCB-B054-4C34-8DAD-BB8E9454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16502-BF90-4FCF-B5ED-4D65D33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518C7-74DC-4EFF-BFAF-F8A663E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E893-8E30-4A92-9B01-DBBAE0E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BD140-B4FE-4721-9E89-656566B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5BC4-DAD8-48FB-9BCE-B3F96A4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3E233-3C6B-44C0-BA2F-071C6E2F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EE99B-BEE6-4197-A885-DAE8FBBA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F03FD-9292-4804-A158-01E554C8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7DBA-13A8-4846-8FB1-8982336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5185B-7090-4C9C-AC67-E3CD7852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BEB24-7EAB-445A-B388-9D4B862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29BE-DEA8-4C1E-AA1B-3D1D835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4A823-85FC-4DE1-A116-86D00CC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096E-AA66-4885-8BBC-AED2288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39B5E-4316-42EB-BF71-2096C94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B761-206F-4AAD-9016-7C36D12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3C02-5969-404F-8D4C-3E75819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51E8-1089-43A7-B47A-65FDD49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88B66-3E95-4363-9B1A-7D31D52C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57EF-E448-4765-A0CD-DAFCC29B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E551E-439F-4AFE-AD42-3ABC0A4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E4CBB-F95A-4565-9991-05A4484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48061-412C-40E8-83D1-D7D8DBF3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F7D31-8C7A-48EE-844D-14ED9987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D322A-9EE6-4B8E-96D3-308D998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B5411-45FF-4070-B143-426E4534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0F99-E8D8-4258-8A24-54CF84B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BDFE4-88C5-48A6-9C88-3D81162A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73B4-9ED7-43C2-99D8-8C79A2B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DF59A-6D0F-4E0A-B579-B07B09D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1775B-2979-4538-BD17-0C9E107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EA5B6-D1AC-451E-A8A2-0C60082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8CBCD-4783-4BB5-9F6F-BF3DCA47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F30FE-798A-4EC1-8B9D-77C0CB6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09FBD-4F81-40E0-9CD3-B1DC71E2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070F4-FB69-46CF-8C4D-213E707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1DF92-B784-4F52-8998-62685BC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41E-6223-49F7-8BB0-2C2656F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BFB62-1173-4DD9-A3A9-FCF90FE5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94024-45BF-4AE7-8503-540066F2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4973A-A4F6-45D7-B6BD-CFA200DC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159B0-ACE7-43E2-9DF4-E49532C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CB58D-B385-449E-986E-B50D7CF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1EEF9-AA27-4E3C-90D7-CF3A0E9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EE52C-CC40-42EA-B2E9-F5022D6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709B7-2867-4E45-BE72-4109D2E7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84344-A955-49B6-A856-EAA193AB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C4BC9-CAC6-42BC-9390-3ABFD98C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7D4-C13D-422B-800E-63AE75E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DD65A-A5D4-4101-8C23-2461B8F4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3ABB5-F75C-4B22-ABD0-B5AC29E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52116-5EDC-4812-9DA8-131DFB49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2534A-F11F-425C-9B15-2260FA0A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B5158-8F81-4A81-8E89-FE71DFCD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5A5DD-B309-4B80-8E7B-5A172C2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074BF-CE8D-4FD2-949F-1A3B080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D60F6-9E8C-417D-A06E-4A6040E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B4997-4A04-41AF-8C0A-83E7CB0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1C3C4-51A7-467A-9048-0FCF5E9A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C601-EB5C-4982-A210-64BD7A6C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F8A06-C135-46C4-A6AA-9FA20504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C46CF-C218-4237-A458-CCE67091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D367B-91E1-478D-A2E0-83D5729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7811A-0B7E-449D-AA3D-7421EB5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AB471-B1F2-41B1-AD0D-1B3CDA21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C8E42-CBEB-4410-950A-521D4AB4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9093B-4209-420F-BD44-08B12BF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3E848-A0D3-48F3-910A-C014727C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4A2AE-067F-4089-8882-02611C2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970A1-E25B-479E-9B03-CE9EA173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D93-CD8E-48D3-A03E-CB95D62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84E0C-E33B-4A20-A6CA-38A3D17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E46F4-9B67-4DA4-9070-23C46D7B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2E23B-44BF-4EB2-BC4F-7E7D6675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EBC4E-728D-407F-B7DE-8B34C781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8C67B-D23C-4FDD-B307-368C3C50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B2927-AE5F-4B87-8C7B-585FFE2C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854A8-25F2-4F0F-94D6-858BAF4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61A86-B288-4256-8051-4F29BD3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6948B-F698-46F3-84E3-E6C6FCB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5BDE1-8D4F-4EA9-B831-121D1AF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C0C-4550-40A0-97AF-D9AA70EB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6F73-B6DC-4E3B-9AEE-67F6DC6F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04621-FAA5-44D7-98BE-D1E54181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06D5B-B95A-42D7-8DE2-B323E93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6E2E2-6797-43E4-A874-7EEDE04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1381F-0C4F-4546-8169-34308123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A0370-F2FF-46B9-9FFC-AEACD8F6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43694-ABD2-4849-91A2-3CEC3047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CFB90-238A-4FF6-9B70-4380C7D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F6292-7D7F-4316-ABB0-2EE9231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8344F-867A-454C-934B-D670E18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7C687-EA84-4D2C-A0E2-840D1C1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549-8C0A-4A75-BD04-FBB1ABE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A8DCC-E029-42FB-A52C-6A9C4981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39D28-399C-4D60-AE18-41F1F34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1F3AF-6960-4D42-A27C-764D1AB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44CED-9E0A-4449-928D-B8677A6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54A53-F00A-420E-B3AA-E0EC9BE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C168B-CD50-4BC4-9793-E9B9EB61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A0377-923E-43AC-801F-98AD042C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E50DF-8672-4CDA-B0FF-C37A72E7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6FFB9-5245-4039-959C-89EF83E8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DA938-0031-4923-ABC6-2CD3E89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607C-24FC-42E1-8DB2-6E4C485F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55BC9-8D4B-42D9-B0A4-CC4EB75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8B4FE-1884-434F-9A39-AFAF329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48D92-3568-4847-BEB8-1DC8AB7E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B7243-1922-487F-92D4-E4F86E7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9E536C-EB2A-492D-883B-731A107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747D6-2A87-43A2-ABB5-F705BD9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96321-2D09-49C8-9359-E7118DA6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4FE13-48D8-4770-8031-36EC4CF8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0E0AA-9283-420E-A9E7-0FDA331B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4287F-0949-4068-B62A-7F4F24DD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653A-8CD2-4EB4-BE01-C69412CE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9E637-741E-4B63-B925-2D9916C2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C8D65-F4E6-4D20-9AA8-F05D65A9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92C8F-1BDC-46E6-B8B8-F86295AD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1EF1B-6293-4FD3-8E57-1DAC3BD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1BD03-E190-4848-B8F0-759FCAAE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19472-59C8-4254-A8C0-7BEE409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2E0B7-11F4-4891-AA4E-6F903AFC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51451-4A64-4B82-9FE7-1957E20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9AA1F-A221-4D3B-A59D-6847954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B772E-A0F1-47E3-930A-E62D322C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EBD2-5746-4199-8D98-21FFAD6C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0B96AB-A3FF-493A-9102-27EEBDF3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FA059-EC42-40B3-A17F-A68F80D2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BCCC9-87F6-4F84-9F6C-4797B2F9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AE441-4F71-4B45-AD6A-4F39C7A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97191-4987-4670-9746-738AF7D6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52C62-9CEB-44D3-BE81-7D809D29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80854-DE92-47A1-B464-824AD3D2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C8919-C6CE-44EF-8CCD-BA158DF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039B0-D228-4EEB-9EA2-F2F3FAC4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BDD84-A67A-4D9C-B610-D37B1F6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F32A-1472-420C-9263-0F7A9564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2AE3D-C8A0-4108-9C8B-F2A2F665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57218-B052-40DD-9DFC-FAA417C6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D5F38-5935-4C34-A8DB-98B204B1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39027-2AFD-410D-9651-267CB23F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BFBB9E-667E-4841-9F57-A5FBD2B7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8FA798-948C-4DCA-871C-F33C8AE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FD0F6-1C08-4D26-BC8C-001AD7E9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9DF216-1479-4E2A-8C9B-B7C0BD6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890E79-38E2-45A3-B98A-56E1A9A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CF3FD6-A086-4488-9FDA-3B78063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B881-E26A-4C71-B3B4-DAF1F5B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EDA6D-DA84-410C-B040-61361E41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D8B7C-9704-4E6D-944C-B5B7A6A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1E2C7-2F35-44E2-BABF-11C13CC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39589-3980-4DE5-8F85-62AD4AFF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059E3-E07E-4FC4-B5CF-F07DF4B0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95A56-B5BF-49E0-B35B-1C2F4212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026E6-F36D-442B-8F08-68151C3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ECF0A-A14F-4322-B908-3793CA6D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766F8-D277-4467-ADF1-BECFF4E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D1FD9F-E90C-4F76-B1A5-5AD6C364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589E-CF15-421C-8433-189DB647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4A0FB-0B5C-4157-AD0D-905C7747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7F5F07-BA4D-4776-97B2-6B55F3D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08B5B3-5A01-40F7-8C84-2DAD961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88C07-86D5-4216-B554-D308B54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67FDBF-5F44-4698-9BD3-E7A2B14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B25EE9-53A9-48F6-99FC-A4ED03DB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6B2110-E085-44EF-A5FD-14BC21C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F80E-9B1A-438D-907B-47055697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6FF4-9573-4B74-8023-7E136471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005-9E1E-432A-8DDB-EDD8DE56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66A9-1DC2-47A5-BB54-A63DE049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332D-144B-4F06-9456-525489C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B1C7-1CC7-4345-BEB4-22D42BB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3B00-DFE4-4622-BB4F-34205D3B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BDDD-6361-4C6C-B024-D7A7BF8F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F3C0-F972-4C98-BDBE-1068134B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A691-41D4-43DA-A98F-BBCDA429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5743-AF9C-4367-B63A-4580B391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0233-D7D5-4534-845D-FD4210F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2414-DCEF-4243-8ADB-767B87D7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961-4703-4B86-95E6-3F22BE3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E0E3-9EC5-4A22-9000-2425B19C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7FCD-8E2D-45AA-AC50-B2481648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54FB-AC1C-456D-A786-2E0A28FC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553F-24EF-4993-A347-3FF384D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304E-A99C-480C-851F-7FD54E7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448F-4439-4DF3-A719-7CCA9306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B186-277C-4D8C-B9C0-FB6942D3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B904-B5D3-43C5-985E-9A23DB36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C4034-993A-40B5-92E6-6FF8A637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19CB-70B9-42F0-90BF-413021A7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60C-CF15-41C5-98CF-6BFABB1C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1AFE-EF10-4A77-A666-321C6DE6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2271-367B-486F-88E4-931E4D8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2C14-806E-4561-9A5F-C2B56450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8BE4-B95E-49E4-9A5E-BB753845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FB13-0262-4745-B313-2B80E67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52C8-E36A-4989-93BD-EDC671B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C549-34E8-4439-9F6F-039B4CD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43AD-1674-4564-A15C-8F1F93F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872D-D5B0-4DDE-BDE9-7BD112C3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73A6-D721-4B3D-8D63-7C777839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084-6E14-4D17-8E97-FDDFCB6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2BFC1-2982-4F0F-BE79-48D52B4E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F747-2BD3-4C35-97D1-1AF9DA96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731D-1B15-4545-9D99-2DC02C65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C97FF-DDA5-4DD0-A792-56C5984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DE57-1F6B-459B-90E8-FF0E062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83EC-DA16-46D7-97E9-960DA3C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8AED-7931-482D-B31D-1965A0CC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C89AC-44F3-4EA9-95A7-2CEB881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E894-E141-4977-B66B-3DC544C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E45A-1D20-47CB-8598-2E9D4DF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911-308E-4B23-BFDB-D1DA265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DD05-1F82-4CA3-B8CC-13DD25B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8128-8008-42A5-8524-45293343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6A58D-4510-4A84-BED5-AC38F339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EC7F-3718-41ED-B1B3-2B46F790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DA78-827C-4713-8596-91DE6C4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C851-8A9A-4B27-917F-F50458F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3542D-D311-43C6-9CC6-4DBCBF7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5A0E-616A-4FA8-8965-D7CD6F1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EDF79-8FD6-44F4-8011-BBB08968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9F734-C640-413C-9F5C-2345A840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CEE-C266-414B-89B6-6EDF0E5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EAEE-F77F-4A72-8D60-1D811AB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7698-F5D5-4A7C-95D0-3C0293F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FE4D-564D-42A9-88F6-9822E9AB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7CFA-0E32-4883-A47C-E3A60A55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8F07-4BE9-4978-BD99-8D9FC197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64AB6-8CC7-482B-8BEF-AF8F1B8C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B3FC-51DE-47D5-8BC3-EEDB875D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3D1D6-86B3-426B-9775-BB57E6C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E7471-CC48-430B-B67B-FA94A995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F1F2-DADC-4A36-9588-F512B22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1D2-BA50-4B99-A926-4BF887B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6E91-2F64-4ACB-AC53-278F398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A83F1-B839-41D0-B075-7B273EE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73D2-E969-4857-B457-A5C6713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4E2B3-9BAC-4016-B72A-EC833749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47C5-6315-41C9-9E18-4DB6853C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59276-0A20-4248-ACB2-60F684D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A85B-1437-43C6-8C8F-5A167D77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4E9F5-02EC-4E2B-91AC-EB63359B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FB561-94BC-497B-BE5B-16B78782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3FB82-02B6-4274-B640-B75330B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5198-79EA-4591-8DFF-BF141231E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4532-AD14-4A62-ABA7-812769430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1BA-248A-4BA4-BABA-CF6D86A0B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F1F7-B501-4021-817B-539028F03A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C014-12D3-46A0-8C28-19D86B4FF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3E7-6439-4FE8-A464-1B0A3C149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BB6-8A03-4960-82D3-0BDA33EEF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06B-5281-4D08-A562-518F39EF0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852-2258-4610-A7F3-1D2D848D11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3429-CB72-46D7-80E9-0F4B21ACF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3CF5-F7A3-4654-BBD6-D8D6A54BD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2E7-1E8D-4584-9E21-196BA4C84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34D-305D-4F01-8D70-B6C6AF57B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EB7-28DB-4DC4-960A-94B7AA053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A2B-4530-474A-BB76-4F0C058E5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C51-8DAA-4B07-9B4A-40934CBAC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3E4A-EF5B-470A-AEFB-929DAFAB5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922C-AE27-4EC2-83FA-033ACFE57C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8B6-6FB7-4F3B-8A39-D49505A37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010B-A9D2-4C93-A296-E58F0ED27F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A43E-B25C-4D63-BDC9-929295848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7209-CC72-4AAA-ABA8-267E9A1F7D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6F3-E371-4085-B2FD-44EF19ED1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D0CB-10A4-4B6F-A5D9-9D5045133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9B1F-DF10-4CA0-8D89-D7708347E3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C0DD-ECAF-4B91-8E1C-826EE458A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FA3B-0F9E-4FCA-B7AF-F79FA295B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25F3-D115-4746-A35D-54D5427C7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342-20CA-4C34-A5B4-76A08F510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D45D-B62A-40B0-969F-6D6A28AA0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A030-C6F9-4721-8B9D-1F7BBA368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5C93-CAFB-4229-BA6E-ABB184865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A94-7F20-40EB-AC34-6DE6C3A451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96E0-CA86-4B29-8251-26C409B17C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ED29-78AE-4A9C-BEC1-890CA5DF2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01B-B044-4C9B-B861-BDF87D455D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5E6-76E5-49F3-84D1-7159D7D83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38F1-954C-482F-AD41-2D44DE40B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A52B-F074-4197-A6B2-1CEB99E0E0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CDA-51FD-483B-AC4C-4188C4FBB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25A-3B84-4E73-9771-A79CCF579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C7B3-40CA-4FDC-BE1C-E7BF8FD89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81240" y="3048120"/>
            <a:ext cx="6581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200160" y="1704960"/>
            <a:ext cx="8743680" cy="3448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468360" y="2119320"/>
            <a:ext cx="842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468360" y="2549520"/>
            <a:ext cx="842472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95280" y="3024360"/>
            <a:ext cx="8424720" cy="3603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468360" y="3875040"/>
            <a:ext cx="8424720" cy="3603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6"/>
          <a:stretch/>
        </p:blipFill>
        <p:spPr>
          <a:xfrm>
            <a:off x="468360" y="4738680"/>
            <a:ext cx="8424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204840" y="295200"/>
            <a:ext cx="8732880" cy="64580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2"/>
          <a:stretch/>
        </p:blipFill>
        <p:spPr>
          <a:xfrm>
            <a:off x="4211640" y="1139760"/>
            <a:ext cx="1944720" cy="4064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3"/>
          <a:stretch/>
        </p:blipFill>
        <p:spPr>
          <a:xfrm>
            <a:off x="5364000" y="1628640"/>
            <a:ext cx="1729080" cy="349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4"/>
          <a:stretch/>
        </p:blipFill>
        <p:spPr>
          <a:xfrm>
            <a:off x="3492360" y="2058840"/>
            <a:ext cx="1729080" cy="3495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5"/>
          <a:stretch/>
        </p:blipFill>
        <p:spPr>
          <a:xfrm>
            <a:off x="826920" y="247824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6"/>
          <a:stretch/>
        </p:blipFill>
        <p:spPr>
          <a:xfrm>
            <a:off x="1403280" y="2909880"/>
            <a:ext cx="2592360" cy="3492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7"/>
          <a:stretch/>
        </p:blipFill>
        <p:spPr>
          <a:xfrm>
            <a:off x="5076720" y="37893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8"/>
          <a:stretch/>
        </p:blipFill>
        <p:spPr>
          <a:xfrm>
            <a:off x="5580000" y="42069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9"/>
          <a:stretch/>
        </p:blipFill>
        <p:spPr>
          <a:xfrm>
            <a:off x="7380360" y="46386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10"/>
          <a:stretch/>
        </p:blipFill>
        <p:spPr>
          <a:xfrm>
            <a:off x="2916360" y="5084640"/>
            <a:ext cx="187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11"/>
          <a:stretch/>
        </p:blipFill>
        <p:spPr>
          <a:xfrm>
            <a:off x="1116000" y="5502240"/>
            <a:ext cx="863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33280" y="1171440"/>
            <a:ext cx="8675640" cy="45151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11280" y="18018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5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52360" y="792000"/>
            <a:ext cx="8732880" cy="58388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539640" y="865080"/>
            <a:ext cx="50508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611280" y="329868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37960" y="2195640"/>
            <a:ext cx="8668080" cy="24667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171360" y="822240"/>
            <a:ext cx="8801280" cy="54183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6659640" y="18162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7164360" y="27813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1835280" y="37893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4716360" y="47829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4356000" y="5776920"/>
            <a:ext cx="1368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185760" y="1000080"/>
            <a:ext cx="8771040" cy="48578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2800440" y="149868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3319560" y="198900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4788000" y="29829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6300720" y="397656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6588000" y="4941720"/>
            <a:ext cx="2016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30320" y="847800"/>
            <a:ext cx="2950920" cy="58104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709560" y="1365120"/>
            <a:ext cx="7723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62000" y="852480"/>
            <a:ext cx="8820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0440" y="1243080"/>
            <a:ext cx="8763120" cy="43718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900000" y="4264200"/>
            <a:ext cx="6696360" cy="406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755640" y="5127480"/>
            <a:ext cx="6696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2:1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